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33E-8050-4781-971F-508C99B5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927-24CD-4B46-B87A-61A839F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256-E78E-4FB7-B06E-9A584BCA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77B-CB3B-4897-8E1B-9B2576D1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2F4-58E6-4972-A0A4-F3B8CEC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263-9F96-42D7-890C-6C0F376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86B-D3DD-4328-B5C5-1267658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5BF-3ACF-4683-AC27-5248B2E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BF8-91B0-4A72-BDAE-CEA6C44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578-9010-40A5-ACD9-96B5FFA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6D7-C12D-428F-BBD1-0B15088A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BD3-6098-4889-9428-F611699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10C-11B9-4A71-A26B-789E9DD7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artblog.org/blog/wp-content/uploaded/basketball.jpg&amp;imgrefurl=http://theartblog.org/2009/07/book-review-games-and-art/&amp;usg=__jH6MCqf7lFC5uuXHcGlZGDwpRtg=&amp;h=601&amp;w=500&amp;sz=75&amp;hl=en&amp;start=3&amp;um=1&amp;itbs=1&amp;tbnid=ucwS8uXHJOJrGM:&amp;tbnh=135&amp;tbnw=112&amp;prev=/images%3Fq%3Dbasketball%2Bplayers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classmates.com/imgsvc/d%3Fp%3D139312578&amp;imgrefurl=http://www.classmates.com/directory/school/Brighton%2520High%2520School%3Forg%3D3441&amp;usg=__Ro0ozEzBkBCsUJcO_g473yqP6aM=&amp;h=333&amp;w=450&amp;sz=141&amp;hl=en&amp;start=12&amp;um=1&amp;itbs=1&amp;tbnid=uape41VK-HZLdM:&amp;tbnh=94&amp;tbnw=127&amp;prev=/images%3Fq%3Dbrighton%2Bhigh%2Bschool%26hl%3Den%26um%3D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scrapetv.com/News/News%2520Pages/Business/images/mcdonalds%2520logo.jpg&amp;imgrefurl=http://scrapetv.com/News/News%2520Pages/Business/McDonalds%2520sued%2520over%2520fat%2520content%2520in%2520air.html&amp;usg=__2zqO3COrZfVtRWZSRKDAEne8plo=&amp;h=232&amp;w=250&amp;sz=11&amp;hl=en&amp;start=4&amp;um=1&amp;itbs=1&amp;tbnid=1hXwDGJa6VGsEM:&amp;tbnh=103&amp;tbnw=111&amp;prev=/images%3Fq%3Dmcdonalds%2Blogo%26hl%3Den%26um%3D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albinwilson.files.wordpress.com/2009/03/buckinghampalace_468x376.jpg&amp;imgrefurl=http://albinwilson.wordpress.com/2009/03/12/hello-world/&amp;usg=__UvC6raY392R1MLXhF3OSsN9bFes=&amp;h=376&amp;w=468&amp;sz=85&amp;hl=en&amp;start=3&amp;um=1&amp;itbs=1&amp;tbnid=WV-Bq6zoQR00AM:&amp;tbnh=103&amp;tbnw=128&amp;prev=/images%3Fq%3Dbuckingham%2Bpalace%26hl%3Den%26um%3D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Grammar Mini-Less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Last one…. </a:t>
            </a: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ce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the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a NO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ct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ther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using the word “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s are study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hletes are do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erci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rus and Michael are watch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vorite show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hat You Lea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next activity, hold up the card that either says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isc-online.com/objects/index_tj.asp?objid=ESL14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peak,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nd a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se three word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lled differ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You need to remember these differences to write them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efers to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s a possessive adjective (shows pos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ea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Check out thes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ing basketb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143000"/>
            <a:ext cx="2141640" cy="25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cc00"/>
                </a:solidFill>
                <a:latin typeface="Comic Sans MS"/>
              </a:rPr>
              <a:t>Or…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rd of the F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ing to the Celtic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ying out for tr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grea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red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veryone in the room think of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What about </a:t>
            </a:r>
            <a:r>
              <a:rPr b="1" lang="en-US" sz="50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cates a specific location o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hto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ona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590920"/>
            <a:ext cx="2052720" cy="151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91400" y="4010040"/>
            <a:ext cx="159048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919760"/>
            <a:ext cx="1828800" cy="14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cc00"/>
                </a:solidFill>
                <a:latin typeface="Comic Sans MS"/>
              </a:rPr>
              <a:t>There---</a:t>
            </a:r>
            <a:r>
              <a:rPr b="1" lang="en-US" sz="5000" spc="-1" strike="noStrike">
                <a:solidFill>
                  <a:srgbClr val="00cc00"/>
                </a:solidFill>
                <a:latin typeface="Comic Sans MS"/>
              </a:rPr>
              <a:t>continu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press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Often, but not always,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as an ad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eys are over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is having a party, and I promised I would be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is at the gym, I’ll go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cc00"/>
                </a:solidFill>
                <a:latin typeface="Comic Sans MS"/>
              </a:rPr>
              <a:t>There---</a:t>
            </a:r>
            <a:r>
              <a:rPr b="1" lang="en-US" sz="4600" spc="-1" strike="noStrike">
                <a:solidFill>
                  <a:srgbClr val="00cc00"/>
                </a:solidFill>
                <a:latin typeface="Comic Sans MS"/>
              </a:rPr>
              <a:t>continue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as a pronoun to start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t of work to fi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 milk in the refrig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many cars on the highway last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Last one…. </a:t>
            </a: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xample below, it means both students have the sam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are studying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88620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1:10:32Z</dcterms:created>
  <dc:creator>BPS</dc:creator>
  <dc:description/>
  <dc:language>en-US</dc:language>
  <cp:lastModifiedBy>BPS</cp:lastModifiedBy>
  <dcterms:modified xsi:type="dcterms:W3CDTF">2009-11-29T21:57:29Z</dcterms:modified>
  <cp:revision>12</cp:revision>
  <dc:subject/>
  <dc:title>Grammar Mini-Lesson</dc:title>
</cp:coreProperties>
</file>